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896-2A73-404C-A303-3B952DAB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826-2358-4D95-8D70-644AF042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358-1C69-4B62-9916-9D6B48F2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BF5-EBD4-4C97-8C4E-D5207469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273-6653-410A-B82D-603B004D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C50A-4FFA-4DFE-A23F-1623D24E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46E8-C83C-4789-96CF-287C14B9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E854-8142-462E-92F0-0386926E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1C87-F075-4C69-85C5-28BA27DB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C9EC-6A96-44E9-AF09-68262D8B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312D-ECCC-4CB2-BDDE-3DDED895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CAE-3D1B-4200-B635-CA6E8ABE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C9D7-C0E7-455A-8088-4563E0F5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9666-42C8-4957-89B6-3C284314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05E-E7A5-4E3E-98C8-6A7D87CF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2266-E01F-44C6-A9EA-3E53BD64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E254-F339-4F82-BB8F-12F596B9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3F2-FE22-4E8E-952B-B0B83493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FA0-489F-46E4-ACA6-4BC3E98E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9CD-4235-4F89-9913-FB2118D3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F95-0CEC-4BE8-B240-C5B0A6D2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205-109B-4264-A08C-4700F287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47D-C835-4EDD-B6BE-6E646158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736-22EF-4099-8D83-0291B7DB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BD1D-2CD3-4BA5-93B7-C2487F33C061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0424-27EF-4935-BD54-04546C9A9A2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7734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LICZNIK I MIANOWNIK UŁAM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64000" y="513864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my ułamek      w postaci iloraz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11280" y="1628640"/>
          <a:ext cx="216072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628640"/>
                    <a:ext cx="21607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886280" y="17193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alowan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zęści, co zapisuj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597720" y="225900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211640" y="2798640"/>
            <a:ext cx="39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iętamy, że kreska ułamkowa zastępuje iloraz, zatem ułamek możemy zapisać ja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16640" y="3384720"/>
                <a:ext cx="73836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511280" y="998640"/>
            <a:ext cx="68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Figurę podzielono na 8 części. Ile części zamalow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132" descr=""/>
          <p:cNvPicPr/>
          <p:nvPr/>
        </p:nvPicPr>
        <p:blipFill>
          <a:blip r:embed="rId3"/>
          <a:stretch/>
        </p:blipFill>
        <p:spPr>
          <a:xfrm>
            <a:off x="1511280" y="4778280"/>
            <a:ext cx="3916440" cy="117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11280" y="401472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Kostkę czekolady podzielono pomiędzy trójkę dzieci. Każde dziecko otrzymało     czeko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767720" y="513864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616280" y="5859360"/>
                <a:ext cx="203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41640" y="585936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7360" y="585936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62720" y="4284720"/>
                <a:ext cx="2030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21640" y="5815080"/>
                <a:ext cx="809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7680" y="131328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łamek jest inną formą zapisu ilorazu dwóch licz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006640" y="2573280"/>
                <a:ext cx="1695240" cy="29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67000" y="3068640"/>
            <a:ext cx="35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znik ułamka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zie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62360" y="3924360"/>
            <a:ext cx="46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eska ułamkowa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nak dziel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7720" y="473400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nownik ułamka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ziel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25:57Z</dcterms:modified>
  <cp:revision>39</cp:revision>
  <dc:subject/>
  <dc:title>Slajd 1</dc:title>
</cp:coreProperties>
</file>